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2877-47F1-495E-BCE2-E45C8513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A94-5359-4046-B089-4563B903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4038-6B4E-4893-887F-D5A85D8F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55E-A6E3-4349-A415-CBF6F45C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B8EF-25B2-439D-A3D7-8FE32841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88DE-9473-43A7-A7CE-16F4FD33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3540-94BB-4877-A79B-4FBA70F8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5282-A0C2-41C2-A3E0-DD9C5838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0E6A-3B13-467B-9164-2F807484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604A-C70C-4A19-8A9E-9E4E63EC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4434-D8CA-4F63-AEE7-E258E7E8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706-9650-4E7C-9AA5-C6B459FA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6F6E-D1B5-439D-82C1-04BC44BD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1E30-DD84-4CF7-91BE-E5776987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7CE5-0457-4EE8-869D-B25729E7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B734-F1DD-4BE5-9BD3-3902166C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B66E-80C8-4E1E-9F9F-8C30C67F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B08-F0BF-4BFD-ADC4-8C1FA005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8C1-81F1-479E-9E38-894781C2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42BD-5549-4F1E-BDFB-224C36BE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0582-7D0D-4F5D-AB1A-F685782A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D13-174D-4716-9260-8B51C942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789-DF8E-4470-8ED7-700559E1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AF7-8027-412F-A83D-6C7F6C53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46FF-FD3B-4084-BF2D-D65FBEBB955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ED81-0BBE-4B69-A247-59F8139A241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er 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1)  Get out homework #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to problem #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2) Open Up Grapher, It looks like a rainbow on your bottom ba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3) zoom out till you see 5 on the x and y axix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1062000" cy="1218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1062000" cy="1219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2666880" cy="1758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934320" y="6019920"/>
            <a:ext cx="126360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 Go to eq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167360" y="228600"/>
            <a:ext cx="4976640" cy="3622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3568680" cy="2940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966000" y="4141800"/>
            <a:ext cx="2178000" cy="2716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80880" y="4267080"/>
            <a:ext cx="632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it points.  Delete Column 3 and double click column 1 row 1 and start editing the points while tabbing to the next point.  Get all four points.  When you have A-&gt;C then back to “A” again, 4 click 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)  Go to eq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point set again, This time delete all the rows and column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 your little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 these steps for b and 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your mid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553080" y="4038480"/>
            <a:ext cx="2303640" cy="2340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981080" y="5181480"/>
            <a:ext cx="1148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)  Now insert your equ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Equation, New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667320" cy="2986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04920" y="4724280"/>
            <a:ext cx="258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0440" y="4595760"/>
            <a:ext cx="92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ert your 3 equations from little a to A, as well as b to 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 to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5791320"/>
            <a:ext cx="86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the three lines cross at the same point?  What is that poi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2160360" cy="2276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6705720" y="1600200"/>
            <a:ext cx="13269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titu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slope of AB, BC,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B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BC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182880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1905120"/>
            <a:ext cx="1676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)  Graph the altitu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, B, C with the slopes to graph the altitudes and the New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1720" y="2486160"/>
            <a:ext cx="5836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, A(1,4)   _|_m BC  find the equation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, B(3,0)   _|_m AC find the equation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, C(-1,-2) _|_m AB find the equation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5160" y="29718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- 4 = m(x-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71840" y="41148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= m(x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5181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2= m(x+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0481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5181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B= -2 so _|_m AB = 1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114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= 3 so _|_m AC = -1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BC= 1/2  so _|_m BC = 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267080" y="5543640"/>
            <a:ext cx="19814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aph Problem 31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7:35:43Z</dcterms:created>
  <dc:creator>PA Department of Education</dc:creator>
  <dc:description/>
  <dc:language>en-US</dc:language>
  <cp:lastModifiedBy>PA Department of Education</cp:lastModifiedBy>
  <dcterms:modified xsi:type="dcterms:W3CDTF">2008-03-08T18:21:40Z</dcterms:modified>
  <cp:revision>2</cp:revision>
  <dc:subject/>
  <dc:title>Grapher Activity</dc:title>
</cp:coreProperties>
</file>